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A2E-FE30-4EDD-9C2A-4D74396A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B67-0D98-42CF-9CF4-3617455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524-3852-4F4F-B9A0-8D0E6E32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F76-B79D-4E13-8FB1-B8F88C74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C1B7-0EC3-40B4-907D-FEE16451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5DEA-46C6-47D4-8767-B2EF02E9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E6F6-A115-4EC5-B497-F06C9B09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AA9F-C9E4-49CC-9EDA-F4FFB4F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8C88-9859-4D3B-9C28-800D4C05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8E2-2E32-4DA8-82C2-32A6C626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1BC7-1674-4EB2-82A5-24E67840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A4D-9E80-41D9-918C-B6C3A0D1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79B-5F64-47E5-90E4-BF21009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72DA-4FA0-4A2A-B5A3-6D0A468E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494B-6FE1-4D55-AE31-19ECE265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4BE1-E83B-4598-A542-8E39744D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71B7-FCFD-4B5E-B200-E51154E5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4F5-996C-49E6-9B86-03573A42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805-7343-467D-B206-93B8AEA6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962-4548-46E3-ADB3-A3BF3971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88C-30FA-415C-BC17-B7B13046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78E-D4E4-476C-BD4A-3181C7E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777-BE36-4F37-B10D-5CFFFD1D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25C-D294-44EE-A813-0A4213E1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3A4-23F2-4246-97BC-7A0FACB033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C513-5631-4E08-93A6-EEC6022141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Judges 2:6-3:6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verview of the Period of the Judg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373392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5-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eview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first judge, Othniel, and his ene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hud vs. the Moabites, Ammonites, and Amalek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amgar vs. the Philis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Deborah vs. the Canaan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219320"/>
            <a:ext cx="426744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Ju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208160"/>
            <a:ext cx="3771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44480"/>
            <a:ext cx="80773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us of Israel (2:6-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possessed the l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ua died at 1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had peace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aithful until the elders (older leaders)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generation arose that knew not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828800"/>
            <a:ext cx="8001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asy (2:11-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“did evil in the sight of the Lor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 and Ashtar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oked the Lord to a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delivered them to spo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old them to their ene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greatly distr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600200"/>
            <a:ext cx="762012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God raised up judges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term “judg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ir work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secure blessing for God’s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deliver them out of the hand of those that spoiled (robbed)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uccess conditional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erving God, or serving ido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77724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Cycle of Israel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The people worship the gods of other 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God allows other nations to oppress Isra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- The people turn to God for hel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God raises up a leader to deliver them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  ... and this leader becomes the Judge or Governor of Israel for several year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- in peace, until the people strayed from God again... again and again for 13 times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600200"/>
            <a:ext cx="7772400" cy="49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Nations left to test Israel (3:1-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, the younger generation knew not war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ed to be prepared for confl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required to purge the land (3:4-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t, they dwelt among the nation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 their worship with the hea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arried with the heath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 (15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85324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dr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een word outline” from Judges 1 through 1 Samuel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Remember Recurring Cycle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1607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st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 rot="2655600">
            <a:off x="990360" y="28954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048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liction/O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4038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n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50292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60958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655600">
            <a:off x="2209320" y="3962520"/>
            <a:ext cx="1067040" cy="53316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655600">
            <a:off x="3504960" y="49528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655600">
            <a:off x="4800240" y="594360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286000"/>
            <a:ext cx="5943600" cy="4114800"/>
          </a:xfrm>
          <a:custGeom>
            <a:avLst/>
            <a:gdLst/>
            <a:ahLst/>
            <a:rect l="l" t="t" r="r" b="b"/>
            <a:pathLst>
              <a:path w="3282" h="2395">
                <a:moveTo>
                  <a:pt x="2647" y="2395"/>
                </a:moveTo>
                <a:lnTo>
                  <a:pt x="3282" y="2395"/>
                </a:lnTo>
                <a:lnTo>
                  <a:pt x="327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5-01-29T15:00:23Z</dcterms:modified>
  <cp:revision>34</cp:revision>
  <dc:subject/>
  <dc:title>Joshua 20 - 24 Inheritance for the Levites</dc:title>
</cp:coreProperties>
</file>